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273-A018-4F09-83D9-7560CE4F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302-139E-422A-83D9-AAE46B0A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497-454C-47B2-9390-338B53E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359-D91E-4E1B-BC75-11C39D51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A3F-190D-4844-8607-5E20FE5C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536-9D98-40CA-BF12-F914EE0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228-3111-4C9E-979B-DC66CD62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517-E265-4E25-902D-38C146BF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BE7-32FD-4814-9447-27F975BC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FB7-75DF-4AFF-B70E-C813FBF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D07-696D-4F3E-AA62-C2BD6A5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030-ABAD-426E-BABD-2796AF5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78B1-7AD6-47C2-AD29-EF8785C4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700280"/>
            <a:ext cx="648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ersonal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38440" y="260280"/>
            <a:ext cx="5734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12680"/>
            <a:ext cx="792000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809640"/>
            <a:ext cx="84978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-30240"/>
            <a:ext cx="792144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53880"/>
            <a:ext cx="79912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839880"/>
            <a:ext cx="7272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4803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62040" y="0"/>
            <a:ext cx="4392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255680"/>
            <a:ext cx="6696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896760"/>
            <a:ext cx="7632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792440"/>
            <a:ext cx="91440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82440"/>
            <a:ext cx="813744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204840"/>
            <a:ext cx="62658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81040" y="1519200"/>
            <a:ext cx="6181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2:32:13Z</dcterms:created>
  <dc:creator>Administrador</dc:creator>
  <dc:description/>
  <dc:language>en-US</dc:language>
  <cp:lastModifiedBy>Administrador</cp:lastModifiedBy>
  <dcterms:modified xsi:type="dcterms:W3CDTF">2011-05-13T08:03:44Z</dcterms:modified>
  <cp:revision>3</cp:revision>
  <dc:subject/>
  <dc:title>Diapositiva 1</dc:title>
</cp:coreProperties>
</file>